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E58-A9A2-4FF1-9D3E-AFF7A926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CA4-295A-4A18-BEF1-E59EC27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F8E-8B71-4BF7-B2E5-54000F9F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A20-4A6C-4078-BF8C-FDEC688F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59A-2480-4336-87B2-911BADFE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3FF-3A16-4702-88AC-06492A1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F5B-698F-4E2E-B3B6-CA7071A3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FD3-AD77-4040-BB35-ECEDBA4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3FA-ADDC-41EF-BE65-3931DC08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5DF-EFB5-4697-8449-1444103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C3F-8FE1-4AF9-92B0-3A0AB09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D46-6EAE-4BA0-9843-95EF15B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334E-C8C4-4D1D-BA89-722F5EAD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22 de septiem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756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pia y completa con la forma correcta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español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tención cuando el profesor _______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estar, 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mucho en la clase de españ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muchos apunt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_______ un examen y los alumnos __________ el examen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 ustedes español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 cursos _________ (tú) y cuantos __________ tus amig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epaso Gramatical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2 signos de interrogaci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2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76720" y="167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76720" y="220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14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352680" y="3424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352680" y="3957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429000" y="4567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29000" y="5100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505320" y="5710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4-09-22T12:51:30Z</cp:lastPrinted>
  <dcterms:modified xsi:type="dcterms:W3CDTF">2014-09-22T22:16:41Z</dcterms:modified>
  <cp:revision>15</cp:revision>
  <dc:subject/>
  <dc:title>Me llamo _______ Clase 6 nh/il La fecha es 10 de febrero del 2011</dc:title>
</cp:coreProperties>
</file>